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926-86DA-4C89-83E2-9B2802DE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A59-B0A9-4420-8791-4E39AC3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CBA-2255-4888-98BE-B3CD2495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721-790A-457A-B629-72C80AC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8EE-E1A7-44D8-AF61-419B1DB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F57-2AF6-438C-9342-E923A26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091-0FE8-4630-B754-5C1BCD06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D57-4E07-48A6-B4BB-FA05381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D44-95E4-4A9D-97DA-AA966978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250-8E11-4522-8676-6DB2C1B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718-0969-449B-8F9A-A32715A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D47-FFB7-4590-9BB0-F66241F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347B-FF47-4F4E-AF1B-8A02CFD6C1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1E81-DFAE-4BC9-A054-B05788766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gebr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840" y="1981080"/>
            <a:ext cx="808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er the following numb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greatest to lea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/5,  0.5,  1.03,  8/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9280" y="2071800"/>
            <a:ext cx="52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03,  8/10,  3/5,  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760" y="1932120"/>
            <a:ext cx="822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est metric uni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e to weigh a sm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ce of cand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5680" y="2438280"/>
            <a:ext cx="172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362320"/>
            <a:ext cx="8153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Jake planted a tree 1.5 meters tall. How many centimeters tall is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3400" y="19051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3623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150 c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686160" y="1447560"/>
            <a:ext cx="1066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Mr. Dillon bought a bag of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ranges that weigh 96 ounces.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many pounds is this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br>
              <a:rPr sz="40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p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6160" y="2666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89280"/>
            <a:ext cx="9067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ook the Parson Fami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hour 50 minutes to drive to the shore. They stayed for 5 hours 20 minutes. It took them 2 hours 5 minutes to drive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were they gone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360" y="2365200"/>
            <a:ext cx="531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 hours 15 minut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133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numeral eight million, forty seven thousand, five hundred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25416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33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ea of a square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4 sq ft. What is its perimeter in yard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286000"/>
            <a:ext cx="75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4382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6 y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1905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95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14300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line is perpendicular to line 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45124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name of a three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mensional figure with six square f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5146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8600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many more lines of symmetry does a square have than a rectang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14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47242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752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done to the rho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572000"/>
            <a:ext cx="75960" cy="76320"/>
          </a:xfrm>
          <a:custGeom>
            <a:avLst/>
            <a:gdLst>
              <a:gd name="textAreaLeft" fmla="*/ 27360 w 75960"/>
              <a:gd name="textAreaRight" fmla="*/ 48600 w 75960"/>
              <a:gd name="textAreaTop" fmla="*/ 27360 h 76320"/>
              <a:gd name="textAreaBottom" fmla="*/ 489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191120"/>
            <a:ext cx="1904760" cy="76176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167400 h 761760"/>
              <a:gd name="textAreaBottom" fmla="*/ 594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352680"/>
            <a:ext cx="2895480" cy="152424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0" y="35812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809880"/>
            <a:ext cx="2590920" cy="914400"/>
          </a:xfrm>
          <a:prstGeom prst="parallelogram">
            <a:avLst>
              <a:gd name="adj" fmla="val 708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657600"/>
            <a:ext cx="1447920" cy="68580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076640" y="2628360"/>
            <a:ext cx="3276720" cy="426744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938520 h 4267440"/>
              <a:gd name="textAreaBottom" fmla="*/ 332892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23619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2670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514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1814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895480"/>
            <a:ext cx="1523880" cy="8384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4876920"/>
            <a:ext cx="914400" cy="60948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655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5257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666880"/>
            <a:ext cx="2971800" cy="152424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50532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7432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895480"/>
            <a:ext cx="3200400" cy="2210040"/>
          </a:xfrm>
          <a:custGeom>
            <a:avLst/>
            <a:gdLst>
              <a:gd name="textAreaLeft" fmla="*/ 703800 w 3200400"/>
              <a:gd name="textAreaRight" fmla="*/ 2496600 w 3200400"/>
              <a:gd name="textAreaTop" fmla="*/ 486000 h 2210040"/>
              <a:gd name="textAreaBottom" fmla="*/ 17240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114800"/>
            <a:ext cx="2666880" cy="2286000"/>
          </a:xfrm>
          <a:custGeom>
            <a:avLst/>
            <a:gdLst>
              <a:gd name="textAreaLeft" fmla="*/ 586440 w 2666880"/>
              <a:gd name="textAreaRight" fmla="*/ 2080440 w 266688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295280" y="1219320"/>
            <a:ext cx="5638680" cy="2286000"/>
          </a:xfrm>
          <a:prstGeom prst="leftArrow">
            <a:avLst>
              <a:gd name="adj1" fmla="val 50000"/>
              <a:gd name="adj2" fmla="val 616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828800" y="114300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419720"/>
            <a:ext cx="1676520" cy="1295280"/>
          </a:xfrm>
          <a:prstGeom prst="parallelogram">
            <a:avLst>
              <a:gd name="adj" fmla="val 323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715000"/>
            <a:ext cx="1214640" cy="914400"/>
          </a:xfrm>
          <a:prstGeom prst="parallelogram">
            <a:avLst>
              <a:gd name="adj" fmla="val 332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495680"/>
            <a:ext cx="2210040" cy="838440"/>
          </a:xfrm>
          <a:prstGeom prst="parallelogram">
            <a:avLst>
              <a:gd name="adj" fmla="val 658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29000" y="4876920"/>
            <a:ext cx="2286000" cy="1295280"/>
          </a:xfrm>
          <a:prstGeom prst="parallelogram">
            <a:avLst>
              <a:gd name="adj" fmla="val 44122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3429000" y="3123720"/>
            <a:ext cx="2362320" cy="1219320"/>
          </a:xfrm>
          <a:prstGeom prst="parallelogram">
            <a:avLst>
              <a:gd name="adj" fmla="val 48435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84520" y="2357280"/>
            <a:ext cx="38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981080"/>
            <a:ext cx="56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047,5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60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73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solid. How many faces,  vertices, and edges are there on this three dimensional fig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81160" y="4195800"/>
            <a:ext cx="2885760" cy="1290600"/>
            <a:chOff x="2981160" y="4195800"/>
            <a:chExt cx="2885760" cy="1290600"/>
          </a:xfrm>
        </p:grpSpPr>
        <p:sp>
          <p:nvSpPr>
            <p:cNvPr id="234" name=""/>
            <p:cNvSpPr/>
            <p:nvPr/>
          </p:nvSpPr>
          <p:spPr>
            <a:xfrm flipH="1">
              <a:off x="3565080" y="4209840"/>
              <a:ext cx="2301840" cy="93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565080" y="4209840"/>
              <a:ext cx="23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81160" y="4534560"/>
              <a:ext cx="2301840" cy="93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6920" y="4218480"/>
              <a:ext cx="0" cy="9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37880" y="5153760"/>
              <a:ext cx="329040" cy="18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11440" y="5282280"/>
              <a:ext cx="32868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283360" y="4218480"/>
              <a:ext cx="583560" cy="331920"/>
              <a:chOff x="5283360" y="4218480"/>
              <a:chExt cx="583560" cy="33192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5537880" y="421848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283360" y="436392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237120" y="51537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003120" y="52995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006000" y="4195800"/>
              <a:ext cx="583560" cy="331920"/>
              <a:chOff x="3006000" y="4195800"/>
              <a:chExt cx="583560" cy="33192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260520" y="419580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006000" y="434124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faces, 8 vertices, 12 ed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219400"/>
            <a:ext cx="732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is pattern continu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next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, 6, 12, 24…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8288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6765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missing number in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7, 52, 50, ___, 43, 38, 36, 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97440" y="3497400"/>
            <a:ext cx="1579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18576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the rule us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ate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, 22, 17, 27, 22, 32, 27, 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AILY DOU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2080" y="4781520"/>
            <a:ext cx="10922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57640" y="4621320"/>
            <a:ext cx="1094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4880" y="3854520"/>
            <a:ext cx="1092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124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4080" y="228600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btract 10 and add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200" y="1901880"/>
            <a:ext cx="88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this pattern continues, how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ocks are needed to build the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ig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962520"/>
            <a:ext cx="8076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123CountingTiles2"/>
                <a:ea typeface="123CountingTiles2"/>
              </a:rPr>
              <a:t>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0520" y="1852560"/>
            <a:ext cx="7902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680" y="1936800"/>
            <a:ext cx="93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all the factors of 24?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2055960"/>
            <a:ext cx="899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value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equ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12 =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1880" y="3568680"/>
            <a:ext cx="12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33840" y="4572000"/>
            <a:ext cx="1217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4800600"/>
            <a:ext cx="795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905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1080" y="1523880"/>
            <a:ext cx="740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degrees warmer was i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dnesday than on Thurs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83400" y="198108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0 deg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43200" y="367200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738680" y="367200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3520" y="147492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ie will spin each spinner once. What is the total number of different outcomes of a color and a number that can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52880" y="236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8493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lf of Jason’s class received 80 on a math quiz, one quarter of the class received 75, and one-quarter received 9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mode of the class sc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46680" y="2438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46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304920" y="1600200"/>
            <a:ext cx="990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range, mean and medi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following test sco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5, 100, 75, 100,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4197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7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25040" y="1882800"/>
            <a:ext cx="364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nge – 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di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4160" y="1981080"/>
            <a:ext cx="602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, 6, 8, 12,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2057400"/>
            <a:ext cx="9068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oll 2 dice and then add them, what sum has the b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of occurr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380880" y="1981080"/>
            <a:ext cx="9982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out of 36 possibilities render the sum of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2007 PSS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Grade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m R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tain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sures each member has a turn and decides when team mates take their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r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am member watches the clock to make sure the other teams do not exceed the 30 second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re Keeper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eam member keeps track of the points ear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cial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ontestant answers incorrectly, no points are sc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ontestant does not answer in 30 seconds, he/she may choose to ask a team mate for help, if this option is chosen then only half of the points are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09480" y="2241720"/>
            <a:ext cx="1036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rime numbers are there greater than 60 and less than 70?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240" y="2209680"/>
            <a:ext cx="24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1 and 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und the quotient to the nearest tenth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5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228600" y="1828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3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udsd</cp:lastModifiedBy>
  <dcterms:modified xsi:type="dcterms:W3CDTF">2011-03-08T20:16:33Z</dcterms:modified>
  <cp:revision>73</cp:revision>
  <dc:subject/>
  <dc:title>Blank Jeopardy</dc:title>
</cp:coreProperties>
</file>